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486-2A45-4E92-97A5-52566C2BDB9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2AE2-86CC-4FAB-8FA9-DAFFB170FF7E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D2D-E022-457D-9F79-E6DCE97028DD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AFA7-0D4C-4F4D-88ED-1CAD0DCFFC05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2962-D558-43A4-8EC3-27E85CF72192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AEC-B961-474C-AB64-C1EAD7C73FED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4971-AF26-43DC-8109-304E549528C7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D1C-6CF4-4B7F-AF52-F8D0962F8503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936-97B6-4EF5-8FC2-AD5AAEA710FC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DC5-FD55-407F-B217-C32FE1FD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52F-4F78-4C76-B90A-9A120754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2F9-3100-4999-B0DA-7E197344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07B-BEC5-462D-94EB-75EEF62A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42D-028F-4D16-BAD4-685CC7B0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36D-3346-45F0-A948-66F45C32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D24-383A-4711-B4BD-6F5FF19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A48-DEA8-4767-9A2F-46FB0A0B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BE7-403B-419E-A075-CB88562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6FF-8E46-4F1C-94A1-6B968C8B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8F6A-FC49-4185-99E4-0FB26E8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C00-5619-427D-BC36-549BBD9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C95C-8C4D-4FAA-81F8-8E41B7BF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5F7F-DEA9-4583-94C9-6286581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D326-4E6E-41C5-A24B-8E86F7B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6306-EBFF-48D0-8A66-E74FA580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26EB-A89F-418A-AA28-2EC0FC26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1E3-7B1C-47DC-9955-F3B61D8F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EA2-ECD1-42F9-AE14-8C1BF593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4CD-07D9-464C-80F4-677C03F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3C6-CA00-4851-97BA-F18E3A2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FEC-C7FA-41F7-9264-008EB5E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048-4522-4067-9CE4-DF9E8DA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C8A-FD89-421F-B6CF-4F1B50D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7437-F7F4-440C-A17B-3A99D1539406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284F-8D01-4A2E-AAA6-3C331540ADB1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urkuenergia.fi/index.php?page=312fcb1be0018a35895f59c24bac58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tsikko 1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7785360" cy="169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920" b="50005"/>
          <a:stretch/>
        </p:blipFill>
        <p:spPr>
          <a:xfrm>
            <a:off x="1785960" y="3143160"/>
            <a:ext cx="5624640" cy="1838520"/>
          </a:xfrm>
          <a:prstGeom prst="rect">
            <a:avLst/>
          </a:prstGeom>
          <a:ln w="0">
            <a:noFill/>
          </a:ln>
        </p:spPr>
      </p:pic>
      <p:sp>
        <p:nvSpPr>
          <p:cNvPr id="91" name="Suora yhdysviiva 5"/>
          <p:cNvSpPr/>
          <p:nvPr/>
        </p:nvSpPr>
        <p:spPr>
          <a:xfrm>
            <a:off x="1857240" y="5000760"/>
            <a:ext cx="45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Eri laitteiden sähköteho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öytätietokone on joka neljännen kerrostalokodin sähkösyöpöin laite. Tuoreen tutkimuksen mukaan pöytäkone kuluttaa keskimäärin 500 kWh vuodessa, mikä vastaa jääkaappipakastimen kulutu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ähkölaitteiden teho ilmoitetaan watteina (W) tai kilowatteina (kW). 1 kilowatti = 1000 wattia. Sähköä kuluu yhden kilowatin verran, kun yhden kilowatin (kW) eli 1000 watin (W) tehoista laitetta käytetään yksi tunti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un lasket kulutusta, on teho aina muunnettava wateista kilowateiksi ja käyttöaika tunneiks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aat muutettua kulutuksen euroiksi ja senteiksi, kun kerrot sen oman sähkötuotteesi kWh-hinnalla. Esimerkki:1 kWh x 10 snt/kWh = 10 snt 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tsikko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710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sim. TV vie keskimäärin 5W ja video 6W. Kellot, radiot ja tietokoneet vie keskimäärin hieman alle 2W. Stereosarjat vie jopa 10W valmiustilassaan.  Myös pistorasiassa oleva laturi kuluttaa sähkö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20 sähkölaitetta valmiustilassa aiheuttaa  900kWh :n vuosikulutuksen– euroina siis jotain 90 euro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os joka kodissa kuluu tämän verran energiaa, mieti, minkä verran energiaa kuluu koko Suomen tasoll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tsikko 1" descr=""/>
          <p:cNvPicPr/>
          <p:nvPr/>
        </p:nvPicPr>
        <p:blipFill>
          <a:blip r:embed="rId1"/>
          <a:stretch/>
        </p:blipFill>
        <p:spPr>
          <a:xfrm>
            <a:off x="38412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Tekstikehys 2"/>
          <p:cNvSpPr/>
          <p:nvPr/>
        </p:nvSpPr>
        <p:spPr>
          <a:xfrm>
            <a:off x="468720" y="150012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Muuta watit kilowateiksi jakamalla tuhanne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kstikehys 3"/>
          <p:cNvSpPr/>
          <p:nvPr/>
        </p:nvSpPr>
        <p:spPr>
          <a:xfrm>
            <a:off x="519840" y="228600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Muuta aika tunneiks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kstikehys 4"/>
          <p:cNvSpPr/>
          <p:nvPr/>
        </p:nvSpPr>
        <p:spPr>
          <a:xfrm>
            <a:off x="580680" y="3000240"/>
            <a:ext cx="778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Laske kWh:ien lukumäärä kertomalla kilowat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ja aika tuntein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kstikehys 6"/>
          <p:cNvSpPr/>
          <p:nvPr/>
        </p:nvSpPr>
        <p:spPr>
          <a:xfrm>
            <a:off x="544320" y="4214880"/>
            <a:ext cx="85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Kerro kWh:ien lukumäärä  sähköenergian hinnall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uorakulmio 1"/>
          <p:cNvSpPr/>
          <p:nvPr/>
        </p:nvSpPr>
        <p:spPr>
          <a:xfrm>
            <a:off x="1643040" y="10000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puolen tunnin  ajan hiustenkuivaajaa, joka on teholtaan 1000 W. 1 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uorakulmio 2"/>
          <p:cNvSpPr/>
          <p:nvPr/>
        </p:nvSpPr>
        <p:spPr>
          <a:xfrm>
            <a:off x="1714680" y="264312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1. Teho kilowateiksi: 1000 w = 1k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kstikehys 4"/>
          <p:cNvSpPr/>
          <p:nvPr/>
        </p:nvSpPr>
        <p:spPr>
          <a:xfrm>
            <a:off x="1729080" y="3429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neiksi: = ½ h = 0,5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kstikehys 5"/>
          <p:cNvSpPr/>
          <p:nvPr/>
        </p:nvSpPr>
        <p:spPr>
          <a:xfrm>
            <a:off x="1671120" y="421488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Kulutus = 1 kWh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 0,5 h = 0,5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kstikehys 6"/>
          <p:cNvSpPr/>
          <p:nvPr/>
        </p:nvSpPr>
        <p:spPr>
          <a:xfrm>
            <a:off x="1735200" y="4929120"/>
            <a:ext cx="44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Hinta = 0,5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10 snt = 5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orakulmio 1"/>
          <p:cNvSpPr/>
          <p:nvPr/>
        </p:nvSpPr>
        <p:spPr>
          <a:xfrm>
            <a:off x="1500120" y="428760"/>
            <a:ext cx="592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kymmenen minuutin ajan kahvinkeitintä, joka on teholtaan 1200 W. I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kstikehys 3"/>
          <p:cNvSpPr/>
          <p:nvPr/>
        </p:nvSpPr>
        <p:spPr>
          <a:xfrm>
            <a:off x="1603800" y="5357880"/>
            <a:ext cx="48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4. Hinta =0,2 · 10snt = 20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kstikehys 4"/>
          <p:cNvSpPr/>
          <p:nvPr/>
        </p:nvSpPr>
        <p:spPr>
          <a:xfrm>
            <a:off x="1580400" y="250020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Teho kilowatteina:1200 W = 1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kstikehys 5"/>
          <p:cNvSpPr/>
          <p:nvPr/>
        </p:nvSpPr>
        <p:spPr>
          <a:xfrm>
            <a:off x="1592640" y="3429000"/>
            <a:ext cx="62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teina:10 min = 1/6 h = 0,17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kstikehys 6"/>
          <p:cNvSpPr/>
          <p:nvPr/>
        </p:nvSpPr>
        <p:spPr>
          <a:xfrm>
            <a:off x="1601280" y="4429080"/>
            <a:ext cx="62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 Kulutus = 1,2 kWh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0,17 h = 0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tsikko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9620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Tekstikehys 2"/>
          <p:cNvSpPr/>
          <p:nvPr/>
        </p:nvSpPr>
        <p:spPr>
          <a:xfrm>
            <a:off x="-413280" y="928800"/>
            <a:ext cx="1036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katsot tv:tä  3 h päivässä. Television teho on 100W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 kahvinkeitin on päällä 1h päivässä. Kahvinkeittimen te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on 800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3. Kun imuroit 2 h viikossa. Imurin teho on 2000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4. Käytät sähkösaunaa 4 h viikossa. Sähkökiukaan teho on 500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5.Lukulamppusi on päällä 5h päivässä. Lukulampun teho on 6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kstikehys 3"/>
          <p:cNvSpPr/>
          <p:nvPr/>
        </p:nvSpPr>
        <p:spPr>
          <a:xfrm>
            <a:off x="29520" y="5715000"/>
            <a:ext cx="91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Vaihdat 60 W:n hehkulamput 11 W:n energiansäästölampuik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inulla on kotona 15 hehkulamppua. Jos jokainen lamppu on päällä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Keskimäärin 3h päivässä, kuinka paljon säästät sähkölaskussa vuoden aika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0680" y="3786120"/>
            <a:ext cx="85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6. Luokassa olevien loisteputkien teho on 18 W. Kuinka palj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luokan valaistus maksaa kuukaudessa, jos lamput o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äällä 6h koulupäivinä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1480" y="4929120"/>
            <a:ext cx="88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Jos koulussa on 15 samanlaista luokkaa, kuinka paljon raha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luu koulun valaistukseen vuodes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kstikehys 6"/>
          <p:cNvSpPr/>
          <p:nvPr/>
        </p:nvSpPr>
        <p:spPr>
          <a:xfrm>
            <a:off x="800640" y="78588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kWh:n hinta 10 snt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47Z</dcterms:created>
  <dc:creator>Ritva Tamminen</dc:creator>
  <dc:description/>
  <dc:language>en-US</dc:language>
  <cp:lastModifiedBy>Ritva Tamminen</cp:lastModifiedBy>
  <dcterms:modified xsi:type="dcterms:W3CDTF">2010-01-24T08:53:11Z</dcterms:modified>
  <cp:revision>12</cp:revision>
  <dc:subject/>
  <dc:title>Puimuri - kaava</dc:title>
</cp:coreProperties>
</file>